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ТИЦИ И АНТИЕМЕТИЦИ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Слободан Јанковић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култет медицинских наука, Универзитет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финиција и е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Постоперативна мучнина и повраћање се дефинишу као мучнина, напињање или повраћање у току првих 24 до 48 сати после операциј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Учесталост постоперативне мучнине и повраћања је око 30% код свих оперисаних пацијената, и око 80% код пацијената под високим ризиком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епушачки статус, женски пол, повраћање после неке претходне операције и планирана постоперативна употреба опиоида за сузбијање бола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лед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оперативно повраћање понекада има тешке последице: може довести до дехидратације, дехисценције оперативне ране, аспирације желудачног садржаја, руптуре езофагуса и других озбиљних компликациј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често продужава хоспитализацију или доводи до поновне хоспитализације хируршких пацијената, како у абдоминалној хирургији, тако и у осталим врстама хирург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иоперативни узро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иоид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халациони анестетици (укључујући азот-оксидул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на великих доза неостигмина на крају анестезије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ехидратисаност пацијент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нксиознос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жељена дејства лекова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тензивно покретање пацијен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зам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нтерохромафине ћелије гастроинтестиналног тракта ослобађају серотонин услед трауме или релативне исхемије слузокоже, који делује на хемиорецепторску тригер зону преко 5-HT3 рецептор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ферентна парасимпаричка влакна вагалног нерва такође активирају хемиорецепторску зону, која даље комуницира са нуклеус трактус солитариус највише преко допаминских Д</a:t>
            </a:r>
            <a:r>
              <a:rPr b="0" lang="sr-C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 рецептор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естибуларни систем, који детектује промене у равнотежи, комуницира са нуклеус трактус солитариус преко хистаминских (H</a:t>
            </a:r>
            <a:r>
              <a:rPr b="0" lang="sr-C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и ацетилхолинских мускаринских рецептор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актори р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општа инхалациона анестезија,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примена азот-оксидул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дуже трајање анестезиј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операције жучне кесице и гинеколошке операциј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примена опиоида после анестезиј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женски пол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чињеница да особа није пушач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старост мања од 50 година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повраћање приликом претходних операција или у оквиру кинетоз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цена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једностављени упитник Апфела и сарадника узима у обзир четири фактора ризика: непушачки статус, женски пол, повраћање после неке претходне операције и планирана постоперативна употреба опиоида за сузбијање бо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ко пацијент има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један или ниједан фактор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д поменута четири, његов ризик да повраћа после операције је низак, па профилактичка примена антиеметика није потреб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ко постоје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два фактор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ризика, пацијент тада има умерен ризик од постоперативног повраћања, па би требало да прими један антиеметик профилактич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д пацијената са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3 или 4 фактор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, ризик од постоперативног повраћања је висок, и њих треба заштитити са чак два антиеметика различитих механизама деј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цена ризика код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Апфелов упитник за децу са следећа четири фактора: трајање операције пола сата или дуже, старост 3 године или више, повраћање после неке претходне операције или постоперативно повраћање код најближих рођака, и операција страбизм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Уколико дете има један или ниједан фактор ризика, профилакса постоперативног повраћања није потребн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Ако постоје два или више фактора ризика, дете треба заштитити са комбинацијом два антиеметика из различитих фармакотерапијских груп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БОР АНТИЕМЕТИКА ЗА ПРОФИЛАКСУ ПОСТОПЕРАТИВНОГ ПОВРАЋ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рофилакси постоперативног повраћања могу се користити антиеметици из следећих група: блокатори серотонинских рецептора, кортикостероиди, блокатори допаминских рецептора, блокатори неурокининских NК1 рецептора, блокатори мускаринских рецептора и блокатори хистаминских Н1 рецеп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локатори серотонинских 5-НТ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рецеп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Још увек је највише употребљаван ондансетрон, који је регистрован и у нашој земљи. Он се примењује интравенским путем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на крају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хируршке интервенције, у само једној дози од 4 милигра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Осим ондансетрона, у Србији су регистрована још два блокатора 5-НТ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рецептора за парентералну примену која могу да се користе за профилаксу постоперативног повраћања: гранисетрон и палоносетр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себно је палоносетрон интересантан, јер је ефикаснији и од ондансетрона и од гранисетрона. Палоносетрон има јако дуго време полуелиминације (око 40 сати), па успешно спречава повраћање читава два дана, док друга два лека пружају знатно слабију заштиту другог постоперативног д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Блокатори серотонинских 5-НТ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рецеп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публички фонд за здравствено осигурање је ограничио употребу ових лекова само на повраћање после цитостатске терапије, што отежава њихову примену у пракси за превенцију постоперативног повраћ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ак ондансетрона и гранисетрона је њихова склоност да продужавају QT-интервал и тиме повећавају ризик за настанак коморских аритмиј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ме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Повраћање је потребно изазвати код тровања, у року од 1 сата од уношења отрова. Најбоље га је изазвати сирупом од ипекакуане, јужноамеричке биљке (Cephaelis ipecacuanha) која у свом корену и ризому садржи алкалоид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еметин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 Даје се 15 мл овог сирупа са око 200 мл воде, и та доза се може још једном поновити после 20 минута уколико не дође до повраћањ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азивање повраћања је контраиндиковано код: тровања киселинама и базама, тровања нафтом, тровања конвулзивним отрови-ма и код бесвесног стања болесника (због могућности аспира-ције повраћеног садржаја у дисајне путеве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трикостеро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ајвише се користи дексаметазон, у интравенској дози од 8 милиграма на почетку хируршке интервенциј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Ефикасност дексаметазона је иста као и ефикасност 5-НТ</a:t>
            </a:r>
            <a:r>
              <a:rPr b="0" lang="sr-RS" sz="2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 блокатора, с тим што дексаметазон не делује проаритмогено и има још једно додатно корисно дејство: смањује потребу за аналгетицима у постоперативном ток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Дексаметазон доводи до пролазне хипергликемије, а неке студије су указале да нешто повећава учесталост постоперативних инфекција; међутим, ово друго нежељено дејство још увек није са сигурношћу утврђено, јер има студија и са другачијим резултатим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локатори допаминских рецепто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 нашој земљи су на располагању два лека из те групе: халоперидол и метоклопрам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ђутим, док је халоперидол релативно ефикасан у спречавању постоперативног повраћања ако се примени у дози од око 1 милиграм интравенски или интрамускуларно у току хируршке интервенције, метоклопрамид у уобичајеној дози од 10 милиграма не пружа довољну зашти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 би метоклопрамид био ефикасан у овој индикацији, требало би да се примени у интравенској дози од 30 до 50 милиграма, али тада често испољава екстрапирамидалне нежељене ефк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то се метоклопрамид више не препоручује за профилаксу и лечење постоперативног повраћ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алоперидол се може користити, али слично блокаторима 5-НТ</a:t>
            </a:r>
            <a:r>
              <a:rPr b="0" lang="sr-R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рецептора продужа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-интервал и тиме делује про-аритмоге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локатор NК1 рецеп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Апрепитант има дуготрајно дејство (попут палоносетрона) па успешно штити од повраћања свих 48 сати после операције. С друге стране не делује проаротмогено, и нема неких тежих нежељених ефекат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Највећи недостатак лежи у чињеници да је у Србији регистрована само орална форма овог лека, тако да се он примењује око 3 сата пре операције оралним путем, у дози од 80 милиграм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Arial"/>
              </a:rPr>
              <a:t>Такав начин примене може створити проблем приликом увођења пацијента у анестезију, јер повећава ризик од аспирације гастричног садржај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ускарински антагони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ансдермални препарат скополамина, који се иначе користи за профилаксу повраћања услед вожње (код кинетоза), је ефикасан и у профилакси постоперативног повраћања ако се примени 2 до 4 сата пре оп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Ефикасност скополамина је слична ефикасности ондансетро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ежељена дејства овог лека представљају последицу блокаде мускаринских рецептора у другим органима: сувоћа уста, тахикардија, парализа акомодације, пораст интраокуларног притиска, опстипација и ретенција ури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ансдермални препарат скополамина није регистрован у Србији, тако да се не налази на располагању нашим лека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БИНОВАЊЕ АНТИМЕТИКА У ПРОФИЛАКСИ ПОСТОПЕРАТИВНОГ ПОВРАЋ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драсли пацијенти који имају висок ризик од постоперативног повраћања и деца која имају умерен или висок ризик треба да приме комбинацију два антиеметика у профилакси постоперативног повраћ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сновни принцип комбиновања антиеметика је да треба истовремено примењивати лекове са различитим механизмом деловањ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јвише позитивних искустава има са комбиновањем дексаметазона и блокатора 5-НТ</a:t>
            </a:r>
            <a:r>
              <a:rPr b="0" lang="sr-R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рецептора и дексаметазона са дроперидолом или халоперид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ксаметазон се може комбиновати и са апрепитантом, посебно код пацијената са највишим ризи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мбиновање блокатора 5-НТ</a:t>
            </a:r>
            <a:r>
              <a:rPr b="0" lang="sr-R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рецептора са дроперидолом или халоперидолом није контраиндиковано, али тада треба органичити дозе ових лекова да не би дошло до адитивног продужења QT-интервала и настанка аритм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ЕЧЕЊЕ ПОСТОПЕРАТИВНОГ ПОВРАЋ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Шта треба учинити ако пацијент повраћа после операције иако је примио антиеметичку профилакс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еба применити антиеметик из неке од група лекова које нису биле примењене у профилакси. Ефикасност антиеметика у терапији већ успостављеног повраћања није већа него у профилакси, тако да се повремено срећу и рефрактерни случајев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еба у сваком случају избећу непотребно понављање доза истог антиеметика који је био дат у профилакси, поготово ако се повраћање јавило у првих 6 сати после оп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од касније појаве повраћања, никако не треба понављати дозе антиеметика чије дејство иначе траје дуже: палоносетрона, дексаметазона и апрепитан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Као што се може видети из овог кратког прегледа профилактичких и терапијских опција за постоперативно повраћање, данас располажемо са неколико група врло ефикасних лекова чија нежељена дејства нису претерано израже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Можда је у данашњем тренутку најбоље користити дексаметазон за профилаксу, јер нема кардиоваскуларна нежељена дејства, делује довољно дуго и има најнижу цену од свих осталих антиеметика који се могу користити за постоперативно повраћањ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ме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етин изазива повраћање дејством на желудачну слузокожу, али и директним дејством на хемиорецепторну зо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метин је кардиотоксичан, па уколико после примене сирупа од ипекакуане не настане повраћање, лекар мора да спроведе испирање желуца (да се еметин не би апсорбова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поморф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а (супкутана) приме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поморф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 мг) такође ефикасно изазива повраћање преко стимулације допаминских рецептора, али се због депресивног дејства на респираторни центар избега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оморфин боље делује ако особапретходно попије две чаше в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катори хистамински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цеп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метазин, дифенхидрамин, дименхидрин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фикасни су у спречавању повраћања изазваног стимулацијом вестибуларног апарата (у току вожње, или код Мениеровог синдрома), али се користе и за лечење повраћања у првом триместру трудноће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emesis gravidar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атори допаминских Д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ецеп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Метоклопрамид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омперидо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главном се користе за лечење повраћ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ња у склопу гастроентеритиса, за лечење повраћања после примене цитостатика и за сузбијање повраћања током порођаја и хитних хируршких интервенциј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сим дејства на хемиорецепторну зону и центар за повраћање, ови лекови поспешују пражњење желуца (подижу тонус гастроезофагеалног споја, релаксирају пилорус, убрзавају перисталтику антралног дела), што значајно доприноси укупном антиеметичком ефект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ови који блокирају 5-Н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ецеп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ондансетрон, трописетрон, гранисетр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узетно су ефикасни у спречавању и лечењу акутног повраћања код примене цитостати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жељена дејства ондансетрона су главобоља и осећај топлот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Палоносетрон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је један од новијих лекова из ове групе који има посебно својство да успешно инхибира и рано и одложено повраћање после примене цитостатика, тако да му се даје предност код високо-еметогених цитостатика (нпр. код деривата платин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препи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атор неурокининских NК1 рецептора за супстанцу 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репитант после оралне примене има дуготрајно дејство (попут палоносетрона) па успешно штити од повраћања чак 48 са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да се користи за спречавање повраћања после примене цитостатика, комбинује се са дексаметазоном и неким од блокатор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-НТ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ецептор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СПРЕЧАВАЊЕ И ЛЕЧЕЊЕ ПОСТОПЕРАТИВНОГ ПОВРАЋ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. др Слободан Јанковић, Факултет медицинских наука, Универзитет у Крагује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6:56Z</dcterms:modified>
  <cp:revision>7</cp:revision>
  <dc:subject/>
  <dc:title>Slide 1</dc:title>
</cp:coreProperties>
</file>